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A93-1652-4BF0-B4AB-FB4457DF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818-9F5F-4714-BAF5-D56051AB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3473C-DD02-499A-8B32-F3A3E00A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FF538-E104-42DD-9CA6-7D942B9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026F-DD60-4D52-AC29-5F97590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C522-5FBF-47B9-BFD1-817E4DD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F6170-8A59-4A08-9DDD-3A694460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51C24-2042-44C1-89B3-CBAB52E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0CDAD-ACFC-4C1D-8E4E-CE25F3B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342E4-8A8C-49B3-B79D-3C9ADFE7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038F-DF7C-4E80-A12F-909F81A3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68629-6A90-4D0B-A71D-4C5ADAD7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761-B63C-45AA-B5E5-C6FA39E7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4A34D-6480-4B25-A2B5-915DC34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A91D-39EA-48F8-B9FB-6EB4EBA7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1E75C-1DAE-46EF-9AD3-3B9A75B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494E5-DFBD-4579-8916-14F37EC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354E4-4573-4AE3-ACB3-DF0D97A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78113-7431-4DAE-B8E6-418C4EC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F73E4-69D4-4D79-8C3B-5ED8625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DE9A9-81D7-4A13-AB3C-E833384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5B9D6-2BFE-464E-B4FC-39723FD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36C18-F2A0-4F3E-8531-2D1BEA04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B9D-D836-42DB-8846-65C4D59E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F7C54-1FE9-47C3-A9EA-5685950F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07C0-C5D5-4503-9E32-9D0AC3B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8D43C-4DAB-4947-8306-B65D58C2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6569-EB8F-40FE-9FB7-B65B6769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58AF0-E178-4B2C-964D-ADFCFE0F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7313-799C-4F58-8D72-A4936CB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6817-546C-40FA-B741-16B6BAEF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190EF-1199-4C03-ADFC-338E1A6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2D401-6C30-4D89-B7A8-7C22750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6EA92-626C-49C0-BCD9-EBCC86E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C5DD-09D6-408C-9AB1-AEFDE16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F2B85-47C7-4059-A5DF-D3229ED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FB101-8B6C-41B5-8777-BC6CFF63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93E11-F513-4071-98BA-7602B007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02B30-1869-40D7-842B-D320CB2F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CCA2B-EDF3-4CAA-95EA-05E8F9A8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0F068-39EF-4925-B673-C8EA507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90C7D-D407-4DDE-ADF3-D6635F6D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D41F3-2467-4B84-9C74-3B92C32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384A8-C466-42DA-9247-064CA8E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C00CF-F0EC-487E-B126-27BC280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1D0-B861-4113-9150-8DE4D791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EF4B4-A4E4-48C5-B51D-3DA1765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9361E-72B1-498F-8A5A-3F5DEE8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5610E-A50E-4F68-80C3-6ADA375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F8FD8-D176-4FD8-8B16-4D2384BA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0320-51B2-4A01-B91A-5F4B5F95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A5060-A7E8-4343-8770-26196314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782D4-4521-4B64-80DB-3A76AAE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0FC8E-B780-42EC-A80E-C7C6D07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27449-CA92-419E-9E4F-7EC0347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EDC27-1CE7-4C49-A586-4C7E334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063-4D78-40D4-9855-D2CE2D6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56BF0-2634-472D-9323-07A4A69A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54048-2055-4BEC-BD10-8752C93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C9F8C-387D-4DFA-9FE5-5DEC86B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37E1A-E848-45A5-8F5B-0DD2569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EEC7B-B2BC-47AC-9EE7-D38465E4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8E73C-9022-45C0-950F-8940E4DA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4DABD-7F5A-43FA-8424-01B4C89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D021-5940-4832-8301-2B439E6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CE0A-71CF-4101-BD53-F2628BF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F61F-EA7D-43D4-B6D5-C8A69A5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F4F2-824C-4DD2-8DF7-C4AB9FE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56E-AE61-44DD-8739-2C7638A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11ED-6C0B-4F21-AB0F-8417F12A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E022-B628-4774-9D9A-B25B536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FB9-F509-430E-9E0B-20607B23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F397-3B08-4AEB-9019-0DAF150E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594-5EAD-41D5-8868-C73BAE20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AB89-6A15-4E53-A865-0D9561AA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678C-00BA-4ADA-A044-FCB2B36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87EB-9BD7-49D9-950A-FBD8495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9ED4-32B3-4146-B752-6E1C98A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9A14-1207-48FA-9DC5-4589BCE3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306-AFBD-43D9-8ECA-97186E8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B1D0-3093-4C7D-BA0B-4D4B92A9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489C-6BC1-492E-A5C1-16AF76F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1F8E-3B61-4FB2-890A-285A988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C874-A726-471C-A835-C5353C7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AB09-C086-4B6B-A484-D714056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FB01-D779-4AD2-A47C-6481DC20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26E1-FC8D-4F3F-8DBB-BE0831F7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6884-82B9-4958-84BB-B19CED3F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5061-EF54-47CC-87A0-0D9F3B1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1144-149E-431F-9C9A-22DD93F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41A-44C7-4286-A776-435834F9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80CE-2CCE-4C7A-B8F7-F5B13EE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EE18-C2AA-4FD9-89CE-1EE7381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DF8E-F345-444F-9A70-B69FCFC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1F05-1E6C-4B9F-9F9B-7963A85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5A35-1795-414B-BA23-50C1189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8240-3B22-4BA2-8F9B-0BF697C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CB02-6472-46E8-981C-67D5D9A8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E461-C909-4989-B6F6-4916FFD9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A19A-76CE-4D59-B42D-273F41EC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9EC08-872F-4AF8-A9FE-CF5249E3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A0D-3984-40D1-89BB-C8F05A93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A287-D5C4-488A-9264-2F341C1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2D0F-6F41-49FC-87FF-26B6251A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4B80-2CD1-4DDA-A185-BDCFF9E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721A-5686-46C9-AF1F-69FECCB4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CAA3-8BAA-44ED-97CD-B0E3E64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C44B-75C0-42BE-8DDC-7E0140C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0E7A-1AE2-41B4-B4D1-FEDC2C6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2230-7E1A-4A4C-A07D-4EE20A1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0B0C-487D-4964-AEBC-820CCE91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2F33-96AC-40FB-B4F3-53CA2D84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AA6-1F8C-4768-9553-EF973F31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58D2-4364-43B1-8B48-055FE0D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235D-2962-409C-9355-28491759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EF55-0877-47E6-BA79-5333228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478B-ECF8-4B04-A5CC-78FA5F5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893F-2ACC-4157-A74C-4F396C52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D4CF-5D44-4986-B960-98F4924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23A7-E0A4-4264-9A8B-BAF9CAF8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62B3-2545-4F71-A92E-A2EB549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E1236-A886-41DC-BEEA-D12EDB28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B058-8B2D-486B-8C72-3D8C861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E34-BDC6-4ED2-AE90-AED6C86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64B7-570C-4A20-95A1-CFA5552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96A4-AE55-45EB-86EF-27CE8850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0ABC-5D96-4016-AD6B-5F74314B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D4E7-3430-4CD0-B8B8-57457F4C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1CD4-BB04-46E6-B571-A28C7C0C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DDF2F-D800-4E44-B5E9-0127A65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B23E-AF07-442D-A374-B290C870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A3AE-CD46-4D68-9EF3-2A9358D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D8D0-68F3-4FCA-8953-DB3FAA98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7049-47C8-4DBF-8A37-7B1A4077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51E-1621-44F1-BA56-E21EF2A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08A6-D682-434E-9904-DD35294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8EC2-703E-4D0A-8D89-B80F45F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AD661-04CB-4C8F-9A57-1038F3A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9DABF-588C-4A35-AA12-A46A214E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15BA-638F-4694-B0F1-ADC5D203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B343-82D2-437E-BEBB-8380057B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E3F92-906D-48B2-A1B3-82D5908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6698-E3AC-4BFF-8D1C-E654697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34854-70AD-402C-B6A9-F3C5E081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68B7-A999-4C8D-9F69-05E58DF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462-1A7B-45D9-BB3D-BE3B695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D71C-A0F9-4B5E-992A-F5E14B6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7548F-9BBA-4C8D-9913-4BD878B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EF2A0-6114-44A4-9334-F835AAB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97BDA-C54E-4843-A1A4-23F2123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7BDA7-6B22-4EE2-B981-84CD4F6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EE5E-31F6-4ADC-B57D-404D5EAC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AC4B-E1B3-46D0-8F7B-AAB9CAC2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0DF5F-423D-47D1-8EF8-A26C0A6C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9EFF6-171B-41F3-A840-4E217147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A0F98-5E8A-4C62-8829-2C54710D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D384-1056-4BEA-A239-BEB9C01C55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FC5-9569-4162-BCCA-B90748EBC0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7CA-AF7A-469E-9190-8982B02CD3C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C39-544D-40CC-AC2E-96D2D07291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406-53DF-49E1-9462-99D42615C1A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2DE-00D5-49B2-B6D2-B2ED5D91E7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647-C878-4E70-835A-FC788F15D18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F085-C843-463F-907D-693EA5AC51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4506-E37F-4EDE-B06E-93C59FC370C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C06-9F22-4B5F-8D12-D06DB8A900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9F2-EA7C-4D2F-8552-530A2ED7DA5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5BE-65ED-4B24-8064-481B6317FF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D0C-CD70-4C2C-B2B0-0FC2DFDAF0F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BC65-FF26-4AB0-A38B-23C60B9370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34FC-593B-439F-ADA6-F6E542EC170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6D2-C78F-4329-9AAD-A40AAD8D77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BE9-6D47-4782-9A86-041F2DA6207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A5CB-8BBD-4AC9-9D5D-E71C26D75C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9D05-7CB2-447E-9EA6-81C783E16CA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F60-0F8E-44E4-B4EA-9EA37056B8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F8F-F892-46F3-8EDA-D721D27F7B9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02FB-A368-4FD1-AB7B-D1A892638E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6124-CCE4-4A4B-A49F-A0B5E50ECD3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B9AC-4613-4F8D-A185-1235DFCB4C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915-D169-4920-8534-1039371504B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9AF-B49E-4E98-B704-2CEDF50233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9"/>
          <p:cNvSpPr/>
          <p:nvPr/>
        </p:nvSpPr>
        <p:spPr>
          <a:xfrm>
            <a:off x="-6480" y="6053040"/>
            <a:ext cx="22482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Anonymo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CG 641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3933720" cy="3924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"/>
          <p:cNvSpPr/>
          <p:nvPr/>
        </p:nvSpPr>
        <p:spPr>
          <a:xfrm>
            <a:off x="727200" y="190512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ley, J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lenn, Cass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Zhang, 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pilepsy Foundation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sted flash vide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idence points to Anonym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onymous says it was Church of Scient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F5F-5C2F-418D-A99D-8058C95B8860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B Gary Federal H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aron Barr announces infiltration of Anonym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onymous hack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bsi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-mail &amp; Phone Syst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it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eg Hoglund fires 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09D5-210D-40B8-A48F-D13526F33F74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peration Payback (#opson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eorge Hotz and Alexander Egorenov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ch of freedom of spee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ok down PS Network and related s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al action against employees and fami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B4F0-FB23-47F9-8D8B-6D25F3BDCB88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in attacks are SQL injections and distributed denial of service attac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rdening applications to prevent SQL injec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blic key authent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8" name="Picture 2" descr="http://www.unixwiz.net/images/sqlinjection.jpg"/>
          <p:cNvPicPr/>
          <p:nvPr/>
        </p:nvPicPr>
        <p:blipFill>
          <a:blip r:embed="rId1"/>
          <a:stretch/>
        </p:blipFill>
        <p:spPr>
          <a:xfrm>
            <a:off x="3276720" y="4952880"/>
            <a:ext cx="2619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uters and firewalls should be configured to stop invalid IP addresses and filter out protocols that are not need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rusion detection/prevention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ident pl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lti-cast Source Delivery Protocol or anyca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alty security compa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4280" indent="-314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r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DOS attacks are hard to stop and prev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large enough attack will take down a website no matter how much security is in pl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3" name="Picture 2" descr="http://static.tumblr.com/9zoczkt/pColi1p7c/anonymous_by_zaysancho-d3aqimh.png"/>
          <p:cNvPicPr/>
          <p:nvPr/>
        </p:nvPicPr>
        <p:blipFill>
          <a:blip r:embed="rId1"/>
          <a:stretch/>
        </p:blipFill>
        <p:spPr>
          <a:xfrm>
            <a:off x="3352680" y="3886200"/>
            <a:ext cx="2379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rbanes-Oxl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tion 302 – Financial statements and internal controls surrounding them must be certifi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tion 404 - Effectiveness of its internal controls must be assessed and reported annually to the SE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4840" indent="-294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CAOB - IT controls should only be part of the SOX 404 assessment to the extent that specific financial risks are addressed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rbanes-Oxl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urity is not patched or upd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levance of IT to financial state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8" name="Picture 4" descr="http://gbr.pepperdine.edu/wp-content/uploads/2012/02/SOX.jpg"/>
          <p:cNvPicPr/>
          <p:nvPr/>
        </p:nvPicPr>
        <p:blipFill>
          <a:blip r:embed="rId1"/>
          <a:stretch/>
        </p:blipFill>
        <p:spPr>
          <a:xfrm>
            <a:off x="2438280" y="32004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ncep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ts early form, the concept had been adopted by a decentralized online community acting anonymously in a synchronized manner, usually in the direction of a loosely group-chosen goal, but the primary focus was to entertain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gan in 2008 as a decentralized network of individuals, and became focused on promoting access to information, free speech, and transparenc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embershi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you identify with or say you are Anonymous, you are Anonymous and no one has the authority to say you are not except yoursel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ctivities in 20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-ACTA activism in Europ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an. 21st, a series of DDoS attacks on Polish government websites took pla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rian Government Email H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b. 6th, Anonymous broke into the mail server of the Syrian Ministry of Presidential Affairs, accessing some 78 inboxes of Bashar al-Assad's staff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Sec Leak and CIA Att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b. 10th, Anonymous claimed responsibility for taking down the Central Intelligence Agency's website for more than 5 hou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7520" indent="-317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IPAC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ch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onymous took down the American Israel Public Affairs Committee websit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tican website DDoS Attac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ch 1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Anonymous took down the Vatican’s webs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actions from the Soci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dia: Rep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ople: Com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w enforcement: Arr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abbo Hotel Att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frican-American, grey suits, afr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osed due to AID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imed Habbo was rac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7CF7-DBA0-46BD-AFC9-3BB2B89532C5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roject Chan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urch interviews Tom Cru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pyright violation clai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S attacks, prank calls, worldwide prot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Date Placeholder 2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5ADE-C0E4-40E2-BC84-1673A16D0B0D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4:56:00Z</dcterms:created>
  <dc:creator>J.Hana</dc:creator>
  <dc:description/>
  <dc:language>en-US</dc:language>
  <cp:lastModifiedBy>Cassady</cp:lastModifiedBy>
  <cp:lastPrinted>1899-12-30T00:00:00Z</cp:lastPrinted>
  <dcterms:modified xsi:type="dcterms:W3CDTF">2012-04-12T21:05:38Z</dcterms:modified>
  <cp:revision>17</cp:revision>
  <dc:subject/>
  <dc:title>Anonymo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